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596-52EB-4985-8CBE-C92C046E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9EB-FAB5-4B2E-930C-0742621C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0B4-2BDF-4ABD-AF52-5BDFA0C5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8F0-3A5A-4E71-93C3-5159D6D1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AD2-3E85-4E10-B3D7-3237D47F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88E-F0F9-4E2C-9789-42B0A127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74E-83A6-4246-89DA-6C8B8986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9F4-D6A2-46CD-98C9-7C112B8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8E6-E5F2-4349-A021-E85D1D78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DD5-85A7-4260-859D-0E3A9D0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392-FE92-4566-9695-5964D89F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8A3-7FB6-402C-AC00-DFC4562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6D4A-14AE-4727-9297-707DBDD7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009999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or Kaitlin Carson 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984800">
            <a:off x="380880" y="533520"/>
            <a:ext cx="22464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166400">
            <a:off x="6248160" y="609120"/>
            <a:ext cx="2700360" cy="188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124080" y="457200"/>
            <a:ext cx="2667240" cy="174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4689360"/>
            <a:ext cx="2666880" cy="190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553080" y="4343400"/>
            <a:ext cx="21830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 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15200" y="1295280"/>
            <a:ext cx="13780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23880" y="47242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200400"/>
            <a:ext cx="138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esayuno  me gusta comer los gofres y las fres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8288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505320"/>
            <a:ext cx="152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asayuno me gusta beber jugo 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ánda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800600"/>
            <a:ext cx="138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esayuno me gusta come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stel de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733920" y="1219320"/>
            <a:ext cx="2038320" cy="203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33920" y="34290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esayuno me gusta comer las panqueq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2286000" cy="149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96080" y="5181480"/>
            <a:ext cx="12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esayuno me gusta comer lo toci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l A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133360" cy="151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24080" y="1447920"/>
            <a:ext cx="154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comer los papas f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15200" y="1447920"/>
            <a:ext cx="13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comer el sándwi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1709640" cy="2000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3429000"/>
            <a:ext cx="13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beber chocolate con lech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86200" y="2590920"/>
            <a:ext cx="1933560" cy="2414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5880" y="350532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comer la ensa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238880" y="5181480"/>
            <a:ext cx="1416240" cy="142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05520" y="5334120"/>
            <a:ext cx="17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comer la manz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2514600" cy="167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00400" y="1447920"/>
            <a:ext cx="138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comer el pollo fr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314800" cy="154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467480" y="1295280"/>
            <a:ext cx="123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comer </a:t>
            </a:r>
            <a:r>
              <a:rPr b="0" lang="es-ES" sz="1800" spc="-1" strike="noStrike">
                <a:solidFill>
                  <a:srgbClr val="660066"/>
                </a:solidFill>
                <a:latin typeface="Arial"/>
              </a:rPr>
              <a:t>puré de patatas.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24080" y="3200400"/>
            <a:ext cx="138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comer las judias ve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5780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315200" y="3200400"/>
            <a:ext cx="113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comer relle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895480" y="4952880"/>
            <a:ext cx="1747800" cy="1752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52880" y="5181480"/>
            <a:ext cx="131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beber un bati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l Po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199692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32280" y="14079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ara el postre me gusta comer el hel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15200" y="1371600"/>
            <a:ext cx="142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ara el postre me gusta comer una to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14600" y="4343400"/>
            <a:ext cx="1962000" cy="196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00600" y="441972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ara el postre me gusta comer un brow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20:28Z</dcterms:created>
  <dc:creator>carsonkai</dc:creator>
  <dc:description/>
  <dc:language>en-US</dc:language>
  <cp:lastModifiedBy>carsonkai</cp:lastModifiedBy>
  <dcterms:modified xsi:type="dcterms:W3CDTF">2012-04-05T17:15:28Z</dcterms:modified>
  <cp:revision>5</cp:revision>
  <dc:subject/>
  <dc:title>Las Comidas</dc:title>
</cp:coreProperties>
</file>